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gif" ContentType="image/gif"/>
  <Override PartName="/ppt/media/image15.wmf" ContentType="image/x-wmf"/>
  <Override PartName="/ppt/media/image7.gif" ContentType="image/gif"/>
  <Override PartName="/ppt/media/image12.gif" ContentType="image/gif"/>
  <Override PartName="/ppt/media/image14.jpeg" ContentType="image/jpeg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9C0-C09E-4729-9F51-4B029C45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557-CF8E-4A5F-AEF9-30C171D5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219-2865-4753-879C-6849F2ED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F35-FAB8-447B-9A2A-BF92197D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BE0-8859-4862-9C78-32FFE4BD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16A6-C147-44A1-B463-A9A4557A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D56-2CD4-42FC-8B32-077EBA08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F41-A89E-41D4-8ADE-C6380953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1DA-8530-4C07-8A7E-C7DFA26E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B61-EA93-4036-A48A-313EF9B0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B97-6A5E-4EF2-BE8D-7B395E2A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0C6-37A6-4847-B72D-8473F997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8554-FC72-47F6-A97B-4F73DBF38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wmf"/><Relationship Id="rId12" Type="http://schemas.openxmlformats.org/officeDocument/2006/relationships/image" Target="../media/image12.gi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 Rutina D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8600" y="981000"/>
            <a:ext cx="1839960" cy="1481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4221000"/>
            <a:ext cx="1057320" cy="924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961920" cy="1028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64000" y="5445000"/>
            <a:ext cx="109548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885080" y="404640"/>
            <a:ext cx="952560" cy="1343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148360" y="1125360"/>
            <a:ext cx="101916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476360" y="5229360"/>
            <a:ext cx="89532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59280" y="3789360"/>
            <a:ext cx="86508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012000" y="5445000"/>
            <a:ext cx="761760" cy="619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7164360" y="2565360"/>
            <a:ext cx="1065240" cy="777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564000" y="33336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1835280" y="3357720"/>
            <a:ext cx="90468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7667640" y="5516640"/>
            <a:ext cx="82872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8500"/>
                            </p:stCondLst>
                            <p:childTnLst>
                              <p:par>
                                <p:cTn id="6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go mis deb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184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o la c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887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eo la te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40000" y="2276640"/>
            <a:ext cx="4176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 acu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37000" y="2527200"/>
            <a:ext cx="20700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 despierto y  me leva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1280" y="1772640"/>
            <a:ext cx="6553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 lavo / me du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48099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4969080" cy="3697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40000" y="83664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afe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 v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5759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o 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79640" y="1608120"/>
            <a:ext cx="554508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4318200" cy="3962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16000" y="765000"/>
            <a:ext cx="63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cepillo los d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y al coleg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824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uelvo a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00360" y="2341440"/>
            <a:ext cx="395928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9:01:14Z</dcterms:created>
  <dc:creator>jens</dc:creator>
  <dc:description/>
  <dc:language>en-US</dc:language>
  <cp:lastModifiedBy>Chris Fuller</cp:lastModifiedBy>
  <dcterms:modified xsi:type="dcterms:W3CDTF">2006-10-04T11:07:10Z</dcterms:modified>
  <cp:revision>4</cp:revision>
  <dc:subject/>
  <dc:title>Mi Rutina Dia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9900591</vt:r8>
  </property>
  <property fmtid="{D5CDD505-2E9C-101B-9397-08002B2CF9AE}" pid="3" name="_AuthorEmail">
    <vt:lpwstr>jens@davenant.com</vt:lpwstr>
  </property>
  <property fmtid="{D5CDD505-2E9C-101B-9397-08002B2CF9AE}" pid="4" name="_AuthorEmailDisplayName">
    <vt:lpwstr>Jen Sutton</vt:lpwstr>
  </property>
  <property fmtid="{D5CDD505-2E9C-101B-9397-08002B2CF9AE}" pid="5" name="_EmailSubject">
    <vt:lpwstr>Power Point Pres.</vt:lpwstr>
  </property>
  <property fmtid="{D5CDD505-2E9C-101B-9397-08002B2CF9AE}" pid="6" name="_ReviewingToolsShownOnce">
    <vt:lpwstr/>
  </property>
</Properties>
</file>